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77E5-75EA-490C-A81D-8215CD2EC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CB3-BE45-4615-9DA6-E636587BD0D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8DC-3398-4B31-8E4F-CCE96BD5125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E57-A3A5-430A-9CF0-C3561FC4821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9359-65D5-4808-8C69-A2E282179ED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3E5-F94D-4A98-BC15-04E1A6B4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F2B-3840-469D-8608-C2C332D8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104-7A90-4091-89E2-BC6EA5E4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205-0B97-4BE7-980C-7F4BA246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87A-932A-4AC6-BF55-30178027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D9D2-4616-4D1B-9B88-E924027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35EB-738F-4938-8B3D-B17B3576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0FAB-559B-4B7D-A757-679743D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26E8-7BA9-44C0-936B-C24EFE6F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1C04-CE03-4801-8F86-681D02D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D0F9-0508-4E88-83C1-DF7351FC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5D4-05C3-4619-9927-C66EDAA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F6D-A18C-489B-9107-E1AD779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DE2F-EC35-4425-A2BB-1DF2863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D8C-662D-44E8-9E7A-E54BDB1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94A1-9A1F-4555-AD82-4AB9F6F7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C422-E0FB-4775-8163-842D07CE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5E5A-B3AC-41D2-B81E-294116C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037-E422-420E-8DCB-589FC777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96A-1724-43E4-AD0A-7C1D1DD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B21-EFA0-4669-A8BC-3625394D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9EE-31CE-4D3D-930C-8BF2F83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83F-88D4-4929-BF5C-1FF95085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8C5-8529-40C8-946C-E30B291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9EEA-55ED-41C2-B30C-9D85B5B01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8036-1327-4064-BA62-DC2A430FCCB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or your Lesson Plan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ree Criteria for a 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Usually just one sentenc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Precise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cise verbs that reflect the thinking your students will be do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Set a contex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Given…; After…; Before…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Measurabl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ill you measure the “quality” (%age or criteria me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art with the top level and work backwards through average and below averag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riting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iven _____, students will _____ (verb and specifics) with (measurable) ____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% accuracy or to a certain le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ading Proces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What strategy will students apply as they interact with this text? 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Response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How will students respond to the deeper meaning within the text?  (theme, character development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three-column “prediction journal” to make and revise at least two meaningful predictions in chapters 43 &amp; 44 and state the clues they used to make those predictions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ill use a “Character Summary” worksheet to describe the personality and physical attributes of an assigned character as well as his/her relationship with Maniac Magee and his/her feelings toward racial segreg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ading strategy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tudent wil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edict and confirm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mmarize the key issu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 their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sk questions/reflec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how the relationship between concep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inferences and support with evidenc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raw conclus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e connections betwee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isualiz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723600" y="6248520"/>
            <a:ext cx="75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strategy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ding Response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 change/growth in charact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to/reflect on “big ideas” or optimistic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pond by connecting to…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ing author’s craft (plot, language, etc.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tend with interdisciplinary connections (art, poetry, drama, Internet workshop, journal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p. 421 &amp; 432 for other response ideas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95480" y="6248520"/>
            <a:ext cx="87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se your literature genres textbook for examples and idea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42:12Z</dcterms:created>
  <dc:creator>Julie Coiro</dc:creator>
  <dc:description/>
  <dc:language>en-US</dc:language>
  <cp:lastModifiedBy>Julie Coiro</cp:lastModifiedBy>
  <cp:lastPrinted>2009-11-10T04:01:33Z</cp:lastPrinted>
  <dcterms:modified xsi:type="dcterms:W3CDTF">2009-11-10T11:18:04Z</dcterms:modified>
  <cp:revision>176</cp:revision>
  <dc:subject/>
  <dc:title>Metacognitive Strategy Instruction to Enhance Reading Comprehension</dc:title>
</cp:coreProperties>
</file>